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3E5-45FE-4C5E-A3DA-1043255A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35F-06BE-4E0D-83DF-C9D9075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4AB-B51C-4BF2-A8C6-96B40E7E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142-2B79-4F3F-85B2-74A58DEB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1F7D-5299-41A6-8A01-97EA13E5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779-FF77-42C4-AB8C-4D46C134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82CE-49BC-48F7-BD41-2F2B63B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11AE-D64E-4475-827B-4F1C3662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C5DE-BE78-4200-9F4F-29D3FCE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238F-891C-4130-B1A7-B27F333B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2370-ABE2-4F60-BB4E-8A5C3048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C77-A88F-4673-98FC-C9E382E5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F923-8122-4AFD-8B2C-57405E0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B71E-E287-4A84-8F9F-A70CC071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69DF-916D-45FB-8223-4C4272BF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9254-91A8-4939-A449-4A729108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3BA8-C987-4D6B-99A8-95E97BE6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3EC-2E97-428E-8788-18A437A8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DAA-8B74-4689-B617-833EE9F1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77A-B425-4BEC-9F70-F673F1EA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2BC-08F1-4DD7-965C-8097900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DE7-AEBC-4430-9049-9E2AF9A6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504-D356-454A-8E47-4FFDB8F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D85-CCDA-48A4-BB30-88F91C2E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4C1B-77EA-4AF7-B8A3-75F8D9107B8C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DDBD-60F5-4331-BC8B-E02AD1E169F2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First Standing Committee on Construction (Regulation (EU) 305/201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Verdana"/>
              </a:rPr>
              <a:t>Member States Rights &amp; Obliga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BA6-07AE-42FF-91B1-CFA701BF22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900000" y="1557360"/>
          <a:ext cx="7715520" cy="444816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within their territories of TABs (making use of product areas of table 1 AIV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munication of info to other MS and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tion of the list made electronicaly available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itoring activities and competences of their TABs; Evaluation of TABs (use of table 2, AIV); Information to Com on national procedure for designation and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8C8-8C88-4FBE-ADE6-C011EF090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900000" y="1557360"/>
          <a:ext cx="7715520" cy="299880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3024000"/>
                <a:gridCol w="2748240"/>
              </a:tblGrid>
              <a:tr h="10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uideline for TABs 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be consulted (SCC) before adoption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thdrawal of TAB designation when it does not satisfy any more the requirements of table 2, A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850-AC66-4DDD-A02A-67FD589886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55520" y="26028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900000" y="1557360"/>
          <a:ext cx="7715520" cy="322884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089080"/>
                <a:gridCol w="3683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to Com and other MS of bodies authorised to carry out third-party tasks in the process of AVC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ying authority (N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iding that national accreditation bodies may be 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of a notifying authority responsible for procedures for assessment and notif of NBs and their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EF7-55EA-4B6C-A8E4-7DD4C3D3DA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2016000"/>
                <a:gridCol w="2160720"/>
                <a:gridCol w="3106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.3 Notifying author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egation to non governmental 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legal status of this entity and coverage of li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no conflict of interest with notified bodies; Objective and impartial; respect of organisational rules as mentioned in 41.3,4,5 and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bli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cess to the Com publicly available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ing Com on national procedures for assessment and notification of bo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DB6-CC05-4173-9E1E-E9028E8607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900000" y="1557360"/>
          <a:ext cx="7715520" cy="4538520"/>
        </p:xfrm>
        <a:graphic>
          <a:graphicData uri="http://schemas.openxmlformats.org/drawingml/2006/table">
            <a:tbl>
              <a:tblPr/>
              <a:tblGrid>
                <a:gridCol w="432000"/>
                <a:gridCol w="1871640"/>
                <a:gridCol w="230508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suming liability insurance (43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authority checking compliance of NBs with art 43 and 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and other MS to be informed of notification (preferably making use of Com EE° too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nd still period after notification (depending if accreditation used or no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859-4D38-49E2-A2A5-24B757CA98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.2 Important modifications in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 transfer of file if necessary and keeping the file available for NA and M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llenge of the competence of the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info as foreseen in § 2; Taking of appropriate measures as foreseen in §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exper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use by MS national authority of the system organised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0AE-7388-4FD3-B787-AF8BDA2529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"/>
          <p:cNvGraphicFramePr/>
          <p:nvPr/>
        </p:nvGraphicFramePr>
        <p:xfrm>
          <a:off x="900000" y="1773360"/>
          <a:ext cx="7715520" cy="130968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rdination of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ir NBs comply with obligations set up in art 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37E-EC83-4BF4-A8B3-36A2E1986D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900000" y="1557360"/>
          <a:ext cx="7715520" cy="374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160360"/>
                <a:gridCol w="3538800"/>
              </a:tblGrid>
              <a:tr h="37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1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action pursuant to Regulation 765/2008; Cooperation of the economic operato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rying out evaluation as foreseen in 56§1; If product not complyith possibili with the requirements of CPR, requiring economic operator (EO) taking appropriate corrective actions, with possibility of withdrawal or recall of the product; information to NB if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918-0F8E-40A9-873B-892933FAD6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900000" y="1557360"/>
          <a:ext cx="7715520" cy="401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2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f Com and other MS if non compliance not only limited to the national terri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4,5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adequate corrective measures not taken in due time SMA takes appropriate measures; Information on this measures to Com and other 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37D-8A55-4C51-89D3-EB4F164B4B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900000" y="1557360"/>
          <a:ext cx="7715520" cy="506556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66544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6,7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info between MS and Com about the non compli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of restrictive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on safeguard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 or EAD to be modified if they are the source of the risk (shortcomings) after consultation of 98/34 or Standing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taining or deletion of the taken national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710-3FC2-4E03-AF13-57409BC728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Member States Rights &amp; Oblig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gula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and BW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E51-6A33-44B5-88D0-4FED9B872A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900000" y="1557360"/>
          <a:ext cx="7715520" cy="2165400"/>
        </p:xfrm>
        <a:graphic>
          <a:graphicData uri="http://schemas.openxmlformats.org/drawingml/2006/table">
            <a:tbl>
              <a:tblPr/>
              <a:tblGrid>
                <a:gridCol w="432000"/>
                <a:gridCol w="2087640"/>
                <a:gridCol w="1873080"/>
                <a:gridCol w="3322800"/>
              </a:tblGrid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ying construction products which nevertheless present a risk to health and safety</a:t>
                      </a:r>
                      <a:r>
                        <a:rPr b="0" lang="fr-BE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oned in §1,3 and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7DF-D896-402D-810A-86666641A3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Delegated Acts (Lisbon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900000" y="1557360"/>
          <a:ext cx="7715520" cy="312408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of the dele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(Council) possible at an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62 §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s to delegated a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(Council) within 3 months (extension of 3 months possibl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017-48D0-4D43-927C-6588C1B6CA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Standing Committee on Construction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900000" y="1557360"/>
          <a:ext cx="7715520" cy="107964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e of decision 1999/468/EC art 3 &amp;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members in art 64§3 C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ED4-3222-41A4-9C4D-2D70A936FE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468360" y="404280"/>
            <a:ext cx="9299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A regulation does not need to be transposed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(that, everybody knows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he CPR needs some work in the MS  before national procedures will be conform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Good luck to everyon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410920" y="134136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229-1BA1-4D67-BA4A-3DE9F58285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gulation Fra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94000" y="333360"/>
          <a:ext cx="714996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333360"/>
                    <a:ext cx="71499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2FA-A18A-467D-B32E-0B3258951C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ma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ates of Application</a:t>
            </a: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2011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isclaim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tent of this unformal communication is not necessarily fully endorsed by the Belgian authorities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nly Wording of CPR is correc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B1D-F355-4AD3-BC3D-61F9D2C643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ubsidiarity and BW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!! R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National rules mentioned in 8.6 (EN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d BW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nex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Right of adopting BW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Making use of modifications of BWRin CP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Oblig of making use of ENh (8.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E7C-D093-4935-809A-E5FA4D095A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BWR and essential characteristic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900000" y="1557360"/>
          <a:ext cx="7715520" cy="25192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rst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pe of making use of essential characteristics define by Com by 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Adapting MS requirements accordingly (art 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em for threshold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D37-D8BA-478C-B314-8E4D1321CD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973440" y="277920"/>
            <a:ext cx="96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General principles and use CE mark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826920" y="1413000"/>
          <a:ext cx="6788160" cy="4614840"/>
        </p:xfrm>
        <a:graphic>
          <a:graphicData uri="http://schemas.openxmlformats.org/drawingml/2006/table">
            <a:tbl>
              <a:tblPr/>
              <a:tblGrid>
                <a:gridCol w="430560"/>
                <a:gridCol w="2787480"/>
                <a:gridCol w="357012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ref to marking attesting conf in DoP other than 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hibit or impede use or making available of CP with a declared performance not in accordance with national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 prohibit or impede () making available or use of products bearing CE if declared performances correspond to MS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 used in Requirements for works in accordance with EN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40B-EFC4-4579-942B-C81676174C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PCP &amp; Stakeholder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900000" y="1557360"/>
          <a:ext cx="7715520" cy="461340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or 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Same as 764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conflict of inte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Central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ligations Stakehol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rt 11 to 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Imposing language for safety instru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To be informed in case of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nstration of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ormity with D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Receiving info in a languaga easily underst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Imposing the elimination of the risk (hazard 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of a « reasoned request » if CP presents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5F3-9E6B-4F31-9079-61E731C77E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ENh &amp;EAD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900000" y="1557360"/>
          <a:ext cx="7715520" cy="41338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C being consulted by Com before request to C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Nh not entirely satisfy mandate use of SCC or 98/ 34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dec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AD not entirely satisfy demands ./. BWR use of SCC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727-35EF-4E85-BD7D-E0ECFBDAFE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24:24Z</dcterms:created>
  <dc:creator>Vertessen</dc:creator>
  <dc:description/>
  <dc:language>en-US</dc:language>
  <cp:lastModifiedBy>katsage</cp:lastModifiedBy>
  <dcterms:modified xsi:type="dcterms:W3CDTF">2011-07-01T15:29:13Z</dcterms:modified>
  <cp:revision>16</cp:revision>
  <dc:subject/>
  <dc:title>Diapositive 1</dc:title>
</cp:coreProperties>
</file>